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FC6A-6D2B-4EA1-A122-58899CFE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63A-F989-43C8-ADA6-A5168430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EF7-4AA4-4C42-BB5D-32B02092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3CC-BF6D-4FD3-B412-ED5B6CB9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88C-B662-4A76-BA81-5605C08F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4AB-163C-42F6-BE9E-575C313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1FD-CBBF-4740-A90C-EC804E4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F44-A685-4FA6-80F6-489EEEB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B3C-4FEF-47FD-A0CA-3F95C9EC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A47-35B4-40E6-8D46-48864E4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E00-14DB-4C21-A674-CF0D6F0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E20-8849-4692-8ECC-4AF2FC1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708-6D74-4BA5-BC03-04BEFFC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E59-6E13-40BF-B6F3-85E6C2C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EAC-8814-4436-925A-6A3FA2882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1:25Z</dcterms:modified>
  <cp:revision>99</cp:revision>
  <dc:subject/>
  <dc:title>Profile</dc:title>
</cp:coreProperties>
</file>